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437B-4C20-4D88-9F8A-D874DA8B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6A2-2354-41B4-9DA2-C38A5618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78B-4907-404C-97EF-2490E13C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164-378B-4A0C-A2E3-307B3F56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A6E0-A109-4EEB-8A22-DCCC7C2D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419C-1571-481B-B575-22C04B94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5E7F-CD0F-45DD-B75A-6E0B62D0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8269-F314-46A8-86D1-63C11BE3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C6DE-54D4-4921-AEB5-8376F7A0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64A4-4AE3-44F4-9C60-84FFF9A1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19A9-CBB3-4135-A531-6F28EBA2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DD6-639C-4C2B-A29D-4C926A17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B935-48BF-4A16-A9B0-7ECE6A3F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1D5A-643E-4FC0-94F1-24CA00DA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BCAC-2175-4B7B-9187-B1F6332A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F4B7-08EC-499A-970E-E60674A2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54AF-F931-47D4-B1BF-E57B1139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439-E8CD-4941-BDF2-E9F0F3FE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210-BBD2-4A22-99D4-B117F629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DE5-9B7F-485F-94BE-0F5F446F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B599-F657-4544-B93E-E46FD4BC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D28-0DD7-459F-8D6D-E9BC054F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A15-D9A7-4875-8E3C-54112483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FC8-8C39-45F7-8B63-E687D74E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6434-C079-4D34-AE6F-B0A0654121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957C-A21A-4E38-8A2E-162C19B962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rigonometric Ratios </a:t>
            </a: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in Right Triangl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6172200" y="3809880"/>
          <a:ext cx="2438280" cy="18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3809880"/>
                    <a:ext cx="243828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6" descr="j0301076"/>
          <p:cNvPicPr/>
          <p:nvPr/>
        </p:nvPicPr>
        <p:blipFill>
          <a:blip r:embed="rId3"/>
          <a:stretch/>
        </p:blipFill>
        <p:spPr>
          <a:xfrm>
            <a:off x="1219320" y="38098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480" y="380880"/>
            <a:ext cx="8078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value of each of the trigonometric functions of the angl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990720" y="2057400"/>
            <a:ext cx="0" cy="3200400"/>
          </a:xfrm>
          <a:prstGeom prst="line">
            <a:avLst/>
          </a:prstGeom>
          <a:ln w="507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990720" y="5257800"/>
            <a:ext cx="2438280" cy="0"/>
          </a:xfrm>
          <a:prstGeom prst="line">
            <a:avLst/>
          </a:prstGeom>
          <a:ln w="507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990720" y="2057400"/>
            <a:ext cx="2438280" cy="3200400"/>
          </a:xfrm>
          <a:prstGeom prst="line">
            <a:avLst/>
          </a:prstGeom>
          <a:ln w="507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990720" y="5029200"/>
            <a:ext cx="228600" cy="0"/>
          </a:xfrm>
          <a:prstGeom prst="line">
            <a:avLst/>
          </a:prstGeom>
          <a:ln w="1260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1219320" y="5029200"/>
            <a:ext cx="0" cy="228600"/>
          </a:xfrm>
          <a:prstGeom prst="line">
            <a:avLst/>
          </a:prstGeom>
          <a:ln w="1260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1219320" y="5334120"/>
            <a:ext cx="198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a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380880" y="3276720"/>
            <a:ext cx="838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2209680" y="3124080"/>
            <a:ext cx="114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962520" y="1905120"/>
            <a:ext cx="4800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Hypotenuse =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3962520" y="2666880"/>
            <a:ext cx="44956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= Opposite =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1" descr=""/>
          <p:cNvPicPr/>
          <p:nvPr/>
        </p:nvPicPr>
        <p:blipFill>
          <a:blip r:embed="rId1"/>
          <a:stretch/>
        </p:blipFill>
        <p:spPr>
          <a:xfrm>
            <a:off x="2514600" y="4724280"/>
            <a:ext cx="368280" cy="419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2" descr=""/>
          <p:cNvPicPr/>
          <p:nvPr/>
        </p:nvPicPr>
        <p:blipFill>
          <a:blip r:embed="rId2"/>
          <a:stretch/>
        </p:blipFill>
        <p:spPr>
          <a:xfrm>
            <a:off x="4495680" y="3429000"/>
            <a:ext cx="2895840" cy="660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3" descr=""/>
          <p:cNvPicPr/>
          <p:nvPr/>
        </p:nvPicPr>
        <p:blipFill>
          <a:blip r:embed="rId3"/>
          <a:stretch/>
        </p:blipFill>
        <p:spPr>
          <a:xfrm>
            <a:off x="4572000" y="4114800"/>
            <a:ext cx="3124080" cy="741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4" descr=""/>
          <p:cNvPicPr/>
          <p:nvPr/>
        </p:nvPicPr>
        <p:blipFill>
          <a:blip r:embed="rId4"/>
          <a:stretch/>
        </p:blipFill>
        <p:spPr>
          <a:xfrm>
            <a:off x="4419720" y="4800600"/>
            <a:ext cx="4419360" cy="749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5" descr=""/>
          <p:cNvPicPr/>
          <p:nvPr/>
        </p:nvPicPr>
        <p:blipFill>
          <a:blip r:embed="rId5"/>
          <a:stretch/>
        </p:blipFill>
        <p:spPr>
          <a:xfrm>
            <a:off x="4572000" y="5715000"/>
            <a:ext cx="1892160" cy="660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1" name="Object 2"/>
              <p:cNvSpPr txBox="1"/>
              <p:nvPr/>
            </p:nvSpPr>
            <p:spPr>
              <a:xfrm>
                <a:off x="609480" y="304920"/>
                <a:ext cx="3840120" cy="17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djacent=5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posite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ypotenuse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22" name="Picture 10" descr=""/>
          <p:cNvPicPr/>
          <p:nvPr/>
        </p:nvPicPr>
        <p:blipFill>
          <a:blip r:embed="rId1"/>
          <a:stretch/>
        </p:blipFill>
        <p:spPr>
          <a:xfrm>
            <a:off x="0" y="2362320"/>
            <a:ext cx="4191120" cy="1261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"/>
          <p:cNvPicPr/>
          <p:nvPr/>
        </p:nvPicPr>
        <p:blipFill>
          <a:blip r:embed="rId2"/>
          <a:stretch/>
        </p:blipFill>
        <p:spPr>
          <a:xfrm>
            <a:off x="0" y="3962520"/>
            <a:ext cx="3962520" cy="1100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"/>
          <p:cNvPicPr/>
          <p:nvPr/>
        </p:nvPicPr>
        <p:blipFill>
          <a:blip r:embed="rId3"/>
          <a:stretch/>
        </p:blipFill>
        <p:spPr>
          <a:xfrm>
            <a:off x="0" y="5334120"/>
            <a:ext cx="4038480" cy="1242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"/>
          <p:cNvPicPr/>
          <p:nvPr/>
        </p:nvPicPr>
        <p:blipFill>
          <a:blip r:embed="rId4"/>
          <a:stretch/>
        </p:blipFill>
        <p:spPr>
          <a:xfrm>
            <a:off x="4876920" y="5486400"/>
            <a:ext cx="4267080" cy="966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"/>
          <p:cNvPicPr/>
          <p:nvPr/>
        </p:nvPicPr>
        <p:blipFill>
          <a:blip r:embed="rId5"/>
          <a:stretch/>
        </p:blipFill>
        <p:spPr>
          <a:xfrm>
            <a:off x="4876920" y="2514600"/>
            <a:ext cx="4267080" cy="1157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5" descr=""/>
          <p:cNvPicPr/>
          <p:nvPr/>
        </p:nvPicPr>
        <p:blipFill>
          <a:blip r:embed="rId6"/>
          <a:stretch/>
        </p:blipFill>
        <p:spPr>
          <a:xfrm>
            <a:off x="5079960" y="3962520"/>
            <a:ext cx="406404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rcRect l="65626" t="55290" r="6249" b="16532"/>
          <a:stretch/>
        </p:blipFill>
        <p:spPr>
          <a:xfrm>
            <a:off x="1981080" y="1828800"/>
            <a:ext cx="61722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1447920" y="2057400"/>
            <a:ext cx="7467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use your calculator to find trigonometric ratios, it MUST be in degree mode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 Before taking ANY test that might have trig on it, change the mode to Degree to be safe (EOC, ACT, Semester Exam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838080" y="838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calculator to find each value.  Round to the nearest ten thousand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1066680" y="2209680"/>
                <a:ext cx="2768760" cy="37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04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lving a Problem with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Tangent Rat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AutoShape 3"/>
          <p:cNvSpPr/>
          <p:nvPr/>
        </p:nvSpPr>
        <p:spPr>
          <a:xfrm flipH="1">
            <a:off x="608760" y="2133720"/>
            <a:ext cx="1724040" cy="2384280"/>
          </a:xfrm>
          <a:prstGeom prst="rtTriangl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900000" y="4092480"/>
            <a:ext cx="8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2057400" y="426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ject 7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946080" cy="25146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1142640" y="462132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3 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2667960" y="304812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2819520" y="2133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2819520" y="3581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339800" y="1981080"/>
            <a:ext cx="426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know the angle an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 adjacent to 60º.  We wan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e opposite side.  Us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gent rat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13"/>
              <p:cNvSpPr txBox="1"/>
              <p:nvPr/>
            </p:nvSpPr>
            <p:spPr>
              <a:xfrm>
                <a:off x="5506920" y="3951360"/>
                <a:ext cx="224316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4" name="Group 14"/>
          <p:cNvGrpSpPr/>
          <p:nvPr/>
        </p:nvGrpSpPr>
        <p:grpSpPr>
          <a:xfrm>
            <a:off x="3278160" y="3505320"/>
            <a:ext cx="1004400" cy="1327680"/>
            <a:chOff x="3278160" y="3505320"/>
            <a:chExt cx="1004400" cy="1327680"/>
          </a:xfrm>
        </p:grpSpPr>
        <p:sp>
          <p:nvSpPr>
            <p:cNvPr id="245" name="AutoShape 15"/>
            <p:cNvSpPr/>
            <p:nvPr/>
          </p:nvSpPr>
          <p:spPr>
            <a:xfrm flipH="1">
              <a:off x="3291480" y="3505320"/>
              <a:ext cx="533160" cy="990360"/>
            </a:xfrm>
            <a:prstGeom prst="rtTriangle">
              <a:avLst/>
            </a:prstGeom>
            <a:solidFill>
              <a:srgbClr val="ffff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6"/>
            <p:cNvSpPr/>
            <p:nvPr/>
          </p:nvSpPr>
          <p:spPr>
            <a:xfrm>
              <a:off x="3445560" y="4495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7"/>
            <p:cNvSpPr/>
            <p:nvPr/>
          </p:nvSpPr>
          <p:spPr>
            <a:xfrm>
              <a:off x="3278160" y="369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Object 18"/>
                <p:cNvSpPr txBox="1"/>
                <p:nvPr/>
              </p:nvSpPr>
              <p:spPr>
                <a:xfrm>
                  <a:off x="3901680" y="3809880"/>
                  <a:ext cx="3808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9" name="Text Box 19"/>
          <p:cNvSpPr/>
          <p:nvPr/>
        </p:nvSpPr>
        <p:spPr>
          <a:xfrm>
            <a:off x="7011360" y="4800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1218960"/>
            <a:ext cx="6629400" cy="14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rigonometric Ratios 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are based on the Concept of 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imilar Triangles!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3886200" cy="300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Cj03709000000[1]"/>
          <p:cNvPicPr/>
          <p:nvPr/>
        </p:nvPicPr>
        <p:blipFill>
          <a:blip r:embed="rId2"/>
          <a:stretch/>
        </p:blipFill>
        <p:spPr>
          <a:xfrm>
            <a:off x="6705720" y="3886200"/>
            <a:ext cx="1836720" cy="15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MCED00281_0000[1]"/>
          <p:cNvPicPr/>
          <p:nvPr/>
        </p:nvPicPr>
        <p:blipFill>
          <a:blip r:embed="rId3"/>
          <a:stretch/>
        </p:blipFill>
        <p:spPr>
          <a:xfrm>
            <a:off x="1219320" y="4191120"/>
            <a:ext cx="12747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ll 45º- 45º- 90º Triangles are Similar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5258880" y="2809800"/>
            <a:ext cx="2940480" cy="2907720"/>
            <a:chOff x="5258880" y="2809800"/>
            <a:chExt cx="2940480" cy="2907720"/>
          </a:xfrm>
        </p:grpSpPr>
        <p:sp>
          <p:nvSpPr>
            <p:cNvPr id="108" name="AutoShape 4"/>
            <p:cNvSpPr/>
            <p:nvPr/>
          </p:nvSpPr>
          <p:spPr>
            <a:xfrm flipH="1">
              <a:off x="5258520" y="2809800"/>
              <a:ext cx="2529000" cy="2484360"/>
            </a:xfrm>
            <a:prstGeom prst="rtTriangl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5"/>
            <p:cNvSpPr/>
            <p:nvPr/>
          </p:nvSpPr>
          <p:spPr>
            <a:xfrm>
              <a:off x="5640840" y="48006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 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7569360" y="5067360"/>
              <a:ext cx="218880" cy="226800"/>
            </a:xfrm>
            <a:prstGeom prst="rect">
              <a:avLst/>
            </a:prstGeom>
            <a:solidFill>
              <a:srgbClr val="33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7"/>
            <p:cNvSpPr/>
            <p:nvPr/>
          </p:nvSpPr>
          <p:spPr>
            <a:xfrm>
              <a:off x="7790040" y="3713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6402600" y="52578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" name="Object 9"/>
              <p:cNvSpPr txBox="1"/>
              <p:nvPr/>
            </p:nvSpPr>
            <p:spPr>
              <a:xfrm>
                <a:off x="5867280" y="3505320"/>
                <a:ext cx="685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14" name="Group 10"/>
          <p:cNvGrpSpPr/>
          <p:nvPr/>
        </p:nvGrpSpPr>
        <p:grpSpPr>
          <a:xfrm>
            <a:off x="2743200" y="1752480"/>
            <a:ext cx="2163600" cy="2059920"/>
            <a:chOff x="2743200" y="1752480"/>
            <a:chExt cx="2163600" cy="2059920"/>
          </a:xfrm>
        </p:grpSpPr>
        <p:sp>
          <p:nvSpPr>
            <p:cNvPr id="115" name="AutoShape 11"/>
            <p:cNvSpPr/>
            <p:nvPr/>
          </p:nvSpPr>
          <p:spPr>
            <a:xfrm flipH="1">
              <a:off x="2743200" y="1752480"/>
              <a:ext cx="1752480" cy="1676520"/>
            </a:xfrm>
            <a:prstGeom prst="rtTriangl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2957760" y="30132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 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4343400" y="3276720"/>
              <a:ext cx="152280" cy="152280"/>
            </a:xfrm>
            <a:prstGeom prst="rect">
              <a:avLst/>
            </a:prstGeom>
            <a:solidFill>
              <a:srgbClr val="33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4"/>
            <p:cNvSpPr/>
            <p:nvPr/>
          </p:nvSpPr>
          <p:spPr>
            <a:xfrm>
              <a:off x="4497480" y="23623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3430800" y="33526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" name="Object 16"/>
              <p:cNvSpPr txBox="1"/>
              <p:nvPr/>
            </p:nvSpPr>
            <p:spPr>
              <a:xfrm>
                <a:off x="3048120" y="2133720"/>
                <a:ext cx="5331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21" name="Group 17"/>
          <p:cNvGrpSpPr/>
          <p:nvPr/>
        </p:nvGrpSpPr>
        <p:grpSpPr>
          <a:xfrm>
            <a:off x="1600200" y="4343400"/>
            <a:ext cx="1295280" cy="1221480"/>
            <a:chOff x="1600200" y="4343400"/>
            <a:chExt cx="1295280" cy="1221480"/>
          </a:xfrm>
        </p:grpSpPr>
        <p:sp>
          <p:nvSpPr>
            <p:cNvPr id="122" name="AutoShape 18"/>
            <p:cNvSpPr/>
            <p:nvPr/>
          </p:nvSpPr>
          <p:spPr>
            <a:xfrm flipH="1">
              <a:off x="1600200" y="4343400"/>
              <a:ext cx="1295280" cy="1172880"/>
            </a:xfrm>
            <a:prstGeom prst="rtTriangl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1830600" y="51051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 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782800" y="5410080"/>
              <a:ext cx="112680" cy="106200"/>
            </a:xfrm>
            <a:prstGeom prst="rect">
              <a:avLst/>
            </a:prstGeom>
            <a:solidFill>
              <a:srgbClr val="33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1967040" y="4460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" name="Object 22"/>
              <p:cNvSpPr txBox="1"/>
              <p:nvPr/>
            </p:nvSpPr>
            <p:spPr>
              <a:xfrm>
                <a:off x="2133720" y="5562720"/>
                <a:ext cx="3412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23"/>
              <p:cNvSpPr txBox="1"/>
              <p:nvPr/>
            </p:nvSpPr>
            <p:spPr>
              <a:xfrm>
                <a:off x="2971800" y="4648320"/>
                <a:ext cx="3412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ll 30º- 60º- 90º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riangles are Similar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972880" y="48006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3060360" y="4648320"/>
            <a:ext cx="817560" cy="1114920"/>
            <a:chOff x="3060360" y="4648320"/>
            <a:chExt cx="817560" cy="1114920"/>
          </a:xfrm>
        </p:grpSpPr>
        <p:sp>
          <p:nvSpPr>
            <p:cNvPr id="131" name="AutoShape 5"/>
            <p:cNvSpPr/>
            <p:nvPr/>
          </p:nvSpPr>
          <p:spPr>
            <a:xfrm flipH="1">
              <a:off x="3060000" y="4648320"/>
              <a:ext cx="765000" cy="1074600"/>
            </a:xfrm>
            <a:prstGeom prst="rtTriangl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6"/>
            <p:cNvSpPr/>
            <p:nvPr/>
          </p:nvSpPr>
          <p:spPr>
            <a:xfrm>
              <a:off x="3125880" y="5425920"/>
              <a:ext cx="60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0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7"/>
            <p:cNvSpPr/>
            <p:nvPr/>
          </p:nvSpPr>
          <p:spPr>
            <a:xfrm>
              <a:off x="3430440" y="4952880"/>
              <a:ext cx="44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0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>
              <a:off x="3699000" y="5603760"/>
              <a:ext cx="126720" cy="1191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9"/>
          <p:cNvSpPr/>
          <p:nvPr/>
        </p:nvSpPr>
        <p:spPr>
          <a:xfrm>
            <a:off x="3201840" y="5715000"/>
            <a:ext cx="4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0"/>
              <p:cNvSpPr txBox="1"/>
              <p:nvPr/>
            </p:nvSpPr>
            <p:spPr>
              <a:xfrm>
                <a:off x="3809880" y="5029200"/>
                <a:ext cx="642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1"/>
              <p:cNvSpPr txBox="1"/>
              <p:nvPr/>
            </p:nvSpPr>
            <p:spPr>
              <a:xfrm>
                <a:off x="7238880" y="3276720"/>
                <a:ext cx="6098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38" name="Group 12"/>
          <p:cNvGrpSpPr/>
          <p:nvPr/>
        </p:nvGrpSpPr>
        <p:grpSpPr>
          <a:xfrm>
            <a:off x="5334120" y="2286000"/>
            <a:ext cx="1762920" cy="2383920"/>
            <a:chOff x="5334120" y="2286000"/>
            <a:chExt cx="1762920" cy="2383920"/>
          </a:xfrm>
        </p:grpSpPr>
        <p:sp>
          <p:nvSpPr>
            <p:cNvPr id="139" name="AutoShape 13"/>
            <p:cNvSpPr/>
            <p:nvPr/>
          </p:nvSpPr>
          <p:spPr>
            <a:xfrm flipH="1">
              <a:off x="5334120" y="2286000"/>
              <a:ext cx="1723680" cy="2383920"/>
            </a:xfrm>
            <a:prstGeom prst="rtTriangl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4"/>
            <p:cNvSpPr/>
            <p:nvPr/>
          </p:nvSpPr>
          <p:spPr>
            <a:xfrm>
              <a:off x="5547600" y="4244040"/>
              <a:ext cx="84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5"/>
            <p:cNvSpPr/>
            <p:nvPr/>
          </p:nvSpPr>
          <p:spPr>
            <a:xfrm>
              <a:off x="6581160" y="2711520"/>
              <a:ext cx="51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>
              <a:off x="6819480" y="4414680"/>
              <a:ext cx="239760" cy="225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7"/>
          <p:cNvSpPr/>
          <p:nvPr/>
        </p:nvSpPr>
        <p:spPr>
          <a:xfrm>
            <a:off x="60976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579312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9"/>
          <p:cNvGrpSpPr/>
          <p:nvPr/>
        </p:nvGrpSpPr>
        <p:grpSpPr>
          <a:xfrm>
            <a:off x="2211120" y="1981080"/>
            <a:ext cx="1112040" cy="1810800"/>
            <a:chOff x="2211120" y="1981080"/>
            <a:chExt cx="1112040" cy="1810800"/>
          </a:xfrm>
        </p:grpSpPr>
        <p:sp>
          <p:nvSpPr>
            <p:cNvPr id="146" name="AutoShape 20"/>
            <p:cNvSpPr/>
            <p:nvPr/>
          </p:nvSpPr>
          <p:spPr>
            <a:xfrm flipH="1">
              <a:off x="2226600" y="1981080"/>
              <a:ext cx="993600" cy="1430640"/>
            </a:xfrm>
            <a:prstGeom prst="rtTriangl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1"/>
            <p:cNvSpPr/>
            <p:nvPr/>
          </p:nvSpPr>
          <p:spPr>
            <a:xfrm>
              <a:off x="2211120" y="23418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2"/>
            <p:cNvSpPr/>
            <p:nvPr/>
          </p:nvSpPr>
          <p:spPr>
            <a:xfrm>
              <a:off x="2309760" y="3013920"/>
              <a:ext cx="57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3"/>
            <p:cNvSpPr/>
            <p:nvPr/>
          </p:nvSpPr>
          <p:spPr>
            <a:xfrm>
              <a:off x="2807280" y="2298600"/>
              <a:ext cx="51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4"/>
            <p:cNvSpPr/>
            <p:nvPr/>
          </p:nvSpPr>
          <p:spPr>
            <a:xfrm>
              <a:off x="3054960" y="3252600"/>
              <a:ext cx="165240" cy="159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5"/>
            <p:cNvSpPr/>
            <p:nvPr/>
          </p:nvSpPr>
          <p:spPr>
            <a:xfrm>
              <a:off x="2642040" y="333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2" name="Object 26"/>
              <p:cNvSpPr txBox="1"/>
              <p:nvPr/>
            </p:nvSpPr>
            <p:spPr>
              <a:xfrm>
                <a:off x="3276720" y="2514600"/>
                <a:ext cx="517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ll 30º- 60º- 90º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riangles are Similar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4572000" y="2285640"/>
            <a:ext cx="2801520" cy="1380960"/>
            <a:chOff x="4572000" y="2285640"/>
            <a:chExt cx="2801520" cy="1380960"/>
          </a:xfrm>
        </p:grpSpPr>
        <p:sp>
          <p:nvSpPr>
            <p:cNvPr id="155" name="AutoShape 4"/>
            <p:cNvSpPr/>
            <p:nvPr/>
          </p:nvSpPr>
          <p:spPr>
            <a:xfrm flipH="1" flipV="1" rot="5400000">
              <a:off x="5282280" y="1574640"/>
              <a:ext cx="1380600" cy="2801520"/>
            </a:xfrm>
            <a:prstGeom prst="rtTriangl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 flipV="1" rot="5400000">
              <a:off x="7102080" y="3395160"/>
              <a:ext cx="231480" cy="3106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6"/>
          <p:cNvSpPr/>
          <p:nvPr/>
        </p:nvSpPr>
        <p:spPr>
          <a:xfrm>
            <a:off x="5716440" y="243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858000" y="251460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5258520" y="32767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7356600" y="272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0"/>
              <p:cNvSpPr txBox="1"/>
              <p:nvPr/>
            </p:nvSpPr>
            <p:spPr>
              <a:xfrm>
                <a:off x="5638680" y="3809880"/>
                <a:ext cx="8748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62" name="Group 11"/>
          <p:cNvGrpSpPr/>
          <p:nvPr/>
        </p:nvGrpSpPr>
        <p:grpSpPr>
          <a:xfrm>
            <a:off x="1600200" y="2514600"/>
            <a:ext cx="1430280" cy="993600"/>
            <a:chOff x="1600200" y="2514600"/>
            <a:chExt cx="1430280" cy="993600"/>
          </a:xfrm>
        </p:grpSpPr>
        <p:sp>
          <p:nvSpPr>
            <p:cNvPr id="163" name="AutoShape 12"/>
            <p:cNvSpPr/>
            <p:nvPr/>
          </p:nvSpPr>
          <p:spPr>
            <a:xfrm flipH="1" flipV="1" rot="5400000">
              <a:off x="1818000" y="2296080"/>
              <a:ext cx="993600" cy="1430280"/>
            </a:xfrm>
            <a:prstGeom prst="rtTriangl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 flipV="1" rot="5400000">
              <a:off x="2867760" y="3345120"/>
              <a:ext cx="166680" cy="1587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4"/>
          <p:cNvSpPr/>
          <p:nvPr/>
        </p:nvSpPr>
        <p:spPr>
          <a:xfrm>
            <a:off x="2108520" y="26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2563920" y="267660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1954800" y="313380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3022920" y="282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8"/>
              <p:cNvSpPr txBox="1"/>
              <p:nvPr/>
            </p:nvSpPr>
            <p:spPr>
              <a:xfrm>
                <a:off x="2106720" y="3591000"/>
                <a:ext cx="517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70" name="Group 19"/>
          <p:cNvGrpSpPr/>
          <p:nvPr/>
        </p:nvGrpSpPr>
        <p:grpSpPr>
          <a:xfrm>
            <a:off x="2971800" y="4571640"/>
            <a:ext cx="1177920" cy="803160"/>
            <a:chOff x="2971800" y="4571640"/>
            <a:chExt cx="1177920" cy="803160"/>
          </a:xfrm>
        </p:grpSpPr>
        <p:sp>
          <p:nvSpPr>
            <p:cNvPr id="171" name="AutoShape 20"/>
            <p:cNvSpPr/>
            <p:nvPr/>
          </p:nvSpPr>
          <p:spPr>
            <a:xfrm flipH="1" flipV="1" rot="5400000">
              <a:off x="3159000" y="4383720"/>
              <a:ext cx="803160" cy="1177920"/>
            </a:xfrm>
            <a:prstGeom prst="rtTriangl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1"/>
            <p:cNvSpPr/>
            <p:nvPr/>
          </p:nvSpPr>
          <p:spPr>
            <a:xfrm flipV="1" rot="5400000">
              <a:off x="4016520" y="5241960"/>
              <a:ext cx="134640" cy="1306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22"/>
          <p:cNvSpPr/>
          <p:nvPr/>
        </p:nvSpPr>
        <p:spPr>
          <a:xfrm>
            <a:off x="3353760" y="4572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3657600" y="472428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3277440" y="502920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5"/>
              <p:cNvSpPr txBox="1"/>
              <p:nvPr/>
            </p:nvSpPr>
            <p:spPr>
              <a:xfrm>
                <a:off x="4321080" y="4759200"/>
                <a:ext cx="3859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6"/>
              <p:cNvSpPr txBox="1"/>
              <p:nvPr/>
            </p:nvSpPr>
            <p:spPr>
              <a:xfrm>
                <a:off x="3276720" y="5410080"/>
                <a:ext cx="6094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ming Sides of Right Triang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3657600" y="2514600"/>
            <a:ext cx="2819520" cy="1676520"/>
          </a:xfrm>
          <a:prstGeom prst="rtTriangle">
            <a:avLst/>
          </a:prstGeom>
          <a:solidFill>
            <a:srgbClr val="ffff99"/>
          </a:solidFill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3657600" y="3962520"/>
            <a:ext cx="22860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4343400" y="4267080"/>
            <a:ext cx="1483920" cy="764640"/>
            <a:chOff x="4343400" y="4267080"/>
            <a:chExt cx="1483920" cy="764640"/>
          </a:xfrm>
        </p:grpSpPr>
        <p:sp>
          <p:nvSpPr>
            <p:cNvPr id="182" name="Text Box 6"/>
            <p:cNvSpPr/>
            <p:nvPr/>
          </p:nvSpPr>
          <p:spPr>
            <a:xfrm>
              <a:off x="5488200" y="4572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99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WordArt 7"/>
            <p:cNvSpPr txBox="1"/>
            <p:nvPr/>
          </p:nvSpPr>
          <p:spPr>
            <a:xfrm>
              <a:off x="4343400" y="4267080"/>
              <a:ext cx="11430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Side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Adjacent 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84" name="Rectangle 8"/>
          <p:cNvSpPr/>
          <p:nvPr/>
        </p:nvSpPr>
        <p:spPr>
          <a:xfrm>
            <a:off x="5716800" y="37339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9"/>
          <p:cNvSpPr txBox="1"/>
          <p:nvPr/>
        </p:nvSpPr>
        <p:spPr>
          <a:xfrm>
            <a:off x="4343400" y="2286000"/>
            <a:ext cx="1600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33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otenu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86" name="Group 10"/>
          <p:cNvGrpSpPr/>
          <p:nvPr/>
        </p:nvGrpSpPr>
        <p:grpSpPr>
          <a:xfrm>
            <a:off x="2209680" y="2971800"/>
            <a:ext cx="1218960" cy="1145520"/>
            <a:chOff x="2209680" y="2971800"/>
            <a:chExt cx="1218960" cy="1145520"/>
          </a:xfrm>
        </p:grpSpPr>
        <p:sp>
          <p:nvSpPr>
            <p:cNvPr id="187" name="WordArt 11"/>
            <p:cNvSpPr txBox="1"/>
            <p:nvPr/>
          </p:nvSpPr>
          <p:spPr>
            <a:xfrm>
              <a:off x="2209680" y="2971800"/>
              <a:ext cx="12189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Side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Opposite 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88" name="Rectangle 12"/>
            <p:cNvSpPr/>
            <p:nvPr/>
          </p:nvSpPr>
          <p:spPr>
            <a:xfrm>
              <a:off x="2668680" y="36576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99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Object 13" descr=""/>
          <p:cNvPicPr/>
          <p:nvPr/>
        </p:nvPicPr>
        <p:blipFill>
          <a:blip r:embed="rId1"/>
          <a:stretch/>
        </p:blipFill>
        <p:spPr>
          <a:xfrm>
            <a:off x="6934320" y="4419720"/>
            <a:ext cx="166680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 will be learning 3 trig rati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1295280" y="2133720"/>
            <a:ext cx="701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e- Abbreviation is Sin (but you pronounce it Sign, not Sin!!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ine- Abbreviation is 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ngent- Abbreviation is 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3"/>
          <p:cNvSpPr/>
          <p:nvPr/>
        </p:nvSpPr>
        <p:spPr>
          <a:xfrm>
            <a:off x="5943600" y="2133720"/>
            <a:ext cx="2819520" cy="1676160"/>
          </a:xfrm>
          <a:prstGeom prst="rtTriangle">
            <a:avLst/>
          </a:prstGeom>
          <a:solidFill>
            <a:srgbClr val="ffff99"/>
          </a:solidFill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5486400" y="3809880"/>
            <a:ext cx="2286000" cy="1224000"/>
            <a:chOff x="5486400" y="3809880"/>
            <a:chExt cx="2286000" cy="1224000"/>
          </a:xfrm>
        </p:grpSpPr>
        <p:sp>
          <p:nvSpPr>
            <p:cNvPr id="194" name="Text Box 6"/>
            <p:cNvSpPr/>
            <p:nvPr/>
          </p:nvSpPr>
          <p:spPr>
            <a:xfrm>
              <a:off x="5486400" y="45720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WordArt 7"/>
            <p:cNvSpPr txBox="1"/>
            <p:nvPr/>
          </p:nvSpPr>
          <p:spPr>
            <a:xfrm>
              <a:off x="6629400" y="3809880"/>
              <a:ext cx="11430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Side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Adjacent 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96" name="Rectangle 8"/>
          <p:cNvSpPr/>
          <p:nvPr/>
        </p:nvSpPr>
        <p:spPr>
          <a:xfrm>
            <a:off x="7850520" y="33526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9"/>
          <p:cNvSpPr txBox="1"/>
          <p:nvPr/>
        </p:nvSpPr>
        <p:spPr>
          <a:xfrm>
            <a:off x="6629400" y="1981080"/>
            <a:ext cx="1600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33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otenu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WordArt 11"/>
          <p:cNvSpPr txBox="1"/>
          <p:nvPr/>
        </p:nvSpPr>
        <p:spPr>
          <a:xfrm>
            <a:off x="4648320" y="2590920"/>
            <a:ext cx="1218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id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Opposite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9" name="Object 13" descr=""/>
          <p:cNvPicPr/>
          <p:nvPr/>
        </p:nvPicPr>
        <p:blipFill>
          <a:blip r:embed="rId1"/>
          <a:stretch/>
        </p:blipFill>
        <p:spPr>
          <a:xfrm>
            <a:off x="6934320" y="4419720"/>
            <a:ext cx="1666800" cy="1698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990720" y="2057400"/>
                <a:ext cx="2971800" cy="31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osi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otenus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djacen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otenus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osi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djacen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Rectangle 2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Trigonometric Ratios</a:t>
            </a:r>
            <a:br>
              <a:rPr sz="4200"/>
            </a:br>
            <a:r>
              <a:rPr b="0" lang="en-US" sz="2100" spc="-1" strike="noStrike">
                <a:solidFill>
                  <a:srgbClr val="330033"/>
                </a:solidFill>
                <a:latin typeface="Times New Roman"/>
              </a:rPr>
              <a:t>(The SOHCAHTOA mod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A little trick to help you remember…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TextBox 2"/>
          <p:cNvSpPr/>
          <p:nvPr/>
        </p:nvSpPr>
        <p:spPr>
          <a:xfrm>
            <a:off x="1143000" y="213372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Old Horse,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ght Another Horse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ing Oats A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8:35:15Z</dcterms:created>
  <dc:creator>bruley.m</dc:creator>
  <dc:description/>
  <dc:language>en-US</dc:language>
  <cp:lastModifiedBy>BeasoA</cp:lastModifiedBy>
  <dcterms:modified xsi:type="dcterms:W3CDTF">2010-12-07T16:54:29Z</dcterms:modified>
  <cp:revision>9</cp:revision>
  <dc:subject/>
  <dc:title>Trigonometric Ratios  in Right Triangles</dc:title>
</cp:coreProperties>
</file>